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6669-7147-4450-9761-B5E216B1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C5BD-8FD6-48DB-A450-E19202D9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B0F-858E-490D-8261-7011BB6A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8A6-82DD-46EE-9498-6BC6E72B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10B-7879-4B3F-B89C-9E1FB75F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C4A-CFC6-4439-8F7D-4E9D0F84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E09-1E4E-405D-9E9E-4B0781D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B76-35A2-4859-A1F7-E9A01996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DCD-3977-45FA-9CA1-8D0B8F6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FB5-91C6-4D20-8256-A9ECFDE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F9B-42A4-42D3-8D70-A4088738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CFB-26D8-4E31-8420-EF4634E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C45-4028-47B5-A481-76A1D63D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39F-5BB7-457E-80EB-3BB3052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E2A-D90D-4E13-A810-97E16AB5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2590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76320" y="2971800"/>
            <a:ext cx="1752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5029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gracias. Sí, quiero y puedo ir a tu casa, Gracias mi simpatica y dulce amig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eren venir a mi casa a las  7 de trie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8:27:28Z</dcterms:modified>
  <cp:revision>108</cp:revision>
  <dc:subject/>
  <dc:title>Profile</dc:title>
</cp:coreProperties>
</file>